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581-4158-416B-9F89-D9317CF4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811-C827-4A85-AEDE-46101E5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365-6113-4E6A-B83E-75ADADE8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C55-0514-4168-AAAF-528A1C1A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9BA-B905-4C32-88C8-8FC46EBA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DE7D-BC13-4481-9821-BE767257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8C7E-36C4-46C2-B9D0-A5E716F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BC9D-E39B-4443-81DF-3439A1D4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85E5-ABBD-4B88-891C-B6448D0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4793-5334-4DFB-B996-9E68481F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14C5-ABF5-4843-9304-AE1B9F0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E18-ED47-4D6B-ACBD-9FDE7042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6D7-A4A6-4DC9-9B55-3C18AC9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704C-6821-4ECC-AD6F-E25963A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AB0A-7F95-4266-A3DD-D5F5FE8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6AA-2F54-401A-852B-1AEA3BBE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F9D3-4299-4B14-9587-687F8333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08C-100A-4596-9A3F-598F169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F2E-7C74-4897-9907-79B2E8B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B82-2083-47C1-BC6B-796F8C36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AB5B-5F9D-4FBB-ADBD-4455FBBF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064-9434-42F9-B74D-3A95802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1A6-0D25-425A-95C9-515A030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DE2-AC91-4449-9998-D06CE7B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2B2D-3391-425E-AEFB-B76224B1B881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2397-2EEA-4BB4-B68E-1679DEA7B5A4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83720" y="51084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Corso   di       Ingegneria Costie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1920" y="2603880"/>
            <a:ext cx="581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Elementi di programmazione in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Linguaggio FORTR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Esercitazione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Calcolo dell’indice di resistenza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di Colebrook-Whi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7240" y="476280"/>
            <a:ext cx="88596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957E-29CC-4025-86B8-13ABE7D16558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Tipi di d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CC58-DEDE-4027-BA8D-EAEDFBD89558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83756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ll’inizio di ogni programma devono essere indicati i tipi di dati utilizz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GER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OUBLE PREC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HARACTER *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OG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Tipi di da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371-BA02-4AC2-980A-2778E3E7EB1F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83756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e  la variabile non è dichiarata inizialmente, viene adottata la seguente convenzio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NTEGER variabili che iniziano per i-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AL altrim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uò inoltre essere utilizzato il com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ARAMETER PARAMETER(param</a:t>
            </a:r>
            <a:r>
              <a:rPr b="0" lang="it-IT" sz="2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=cost</a:t>
            </a:r>
            <a:r>
              <a:rPr b="0" lang="it-IT" sz="2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,param</a:t>
            </a:r>
            <a:r>
              <a:rPr b="0" lang="it-IT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=cost</a:t>
            </a:r>
            <a:r>
              <a:rPr b="0" lang="it-IT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NPUT/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594-6FE4-4E98-91D8-747DEAE7041C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83756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er leggere/scrivere dati da file bisog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prire il 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PEN(&lt;n. dell’unità&gt;,file=‘nomefile’,opzio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eggere o scriv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READ(&lt;n. dell’unità&gt;,&lt;format&gt;) &lt;lista variabili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WRITE(&lt;n. dell’unità&gt;,&lt;format&gt;) &lt;lista variabili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hiudere il 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LOSE(&lt;n. dell’unità&gt;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Formati di INPUT/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3805-4E1F-46C5-9753-2D6778DC80F6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724280" cy="4435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0" t="0" r="8689" b="0"/>
          <a:stretch/>
        </p:blipFill>
        <p:spPr>
          <a:xfrm>
            <a:off x="4952880" y="3809880"/>
            <a:ext cx="41911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PERAZIONI e FUN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8459-8EF2-44D5-9EAF-A8F186952164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7690" b="8727"/>
          <a:stretch/>
        </p:blipFill>
        <p:spPr>
          <a:xfrm>
            <a:off x="762120" y="2438280"/>
            <a:ext cx="2590560" cy="1468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1299" t="0" r="1458" b="0"/>
          <a:stretch/>
        </p:blipFill>
        <p:spPr>
          <a:xfrm>
            <a:off x="3124080" y="2438280"/>
            <a:ext cx="5715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PERAZIONI LOGICH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918-DAEA-434A-B2F7-A965FC34A1CD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2076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10937" b="0"/>
          <a:stretch/>
        </p:blipFill>
        <p:spPr>
          <a:xfrm>
            <a:off x="4038480" y="3200400"/>
            <a:ext cx="5105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791320" y="4216320"/>
            <a:ext cx="2743200" cy="2489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iclo IF, IF-THEN,IF THEN-EL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2421000"/>
            <a:ext cx="8209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&lt;condizione&gt; &lt;sequenza di comandi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&lt;condizione&gt;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F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&lt;condizione&gt;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218D-1D65-4BA4-8FBD-76088637D96A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24382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77120" y="2295360"/>
            <a:ext cx="2363760" cy="4181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iclo 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C7D2-DBA4-4FFA-8223-0F6AD4AC907D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2421000"/>
            <a:ext cx="820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D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&lt;var_contr&gt;=&lt;val_ini&gt;,&lt;val_fin&gt;,&lt;step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ND D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---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D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n &lt;var_contr&gt;=&lt;val_ini&gt;,&lt;val_fin&gt;,&lt;step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  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Ciclo W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74DE-1CE8-47D9-AC8B-F01B67FF6B99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421000"/>
            <a:ext cx="820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n 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IF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espressione logica)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O T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END I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DO WHI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espressione logica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&lt;sequenza di comandi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END 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36960" y="2895480"/>
            <a:ext cx="43070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SUBROUT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59AA-B146-4C3B-81B1-668C4A513975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421000"/>
            <a:ext cx="820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subroutines non sono altro che sottoprogrammi che vengono richiamati nel corpo del programma principale con il comand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ALL &lt;nome subroutine&gt;(lista degli argoment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subroutines si trovano alla fine del programma e cominciano c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UBROUTINE &lt;nome subroutine&gt;(lista degli argoment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MMON &lt;lista delle variabili comuni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Generalit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FORTRAN è probabilmente il linguaggio di programmazione più largamente diffuso per la risoluzione di problemi nell’ambito ingegneristico, sebbene la sua invenzione risalga ormai a circa 40 anni f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ORTRAN 77 (o ANSI FORTRA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8415-1ED4-4F95-A5B0-FC006AAD8FEE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Calcolo dell’indice di resistenza tramite la formula di Colebrook-Whi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65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Posizione del probl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DATI: velocità, diametro, scabrez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UTPUT: indice di resiste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8125-B0FF-4D4E-9B23-DE40C27BD92E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2421000"/>
            <a:ext cx="820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16360" y="3435480"/>
                <a:ext cx="3770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λ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λ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den>
                        </m:f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211640" y="2816280"/>
            <a:ext cx="1620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62560" y="152280"/>
            <a:ext cx="1081080" cy="260640"/>
            <a:chOff x="4462560" y="152280"/>
            <a:chExt cx="1081080" cy="260640"/>
          </a:xfrm>
        </p:grpSpPr>
        <p:sp>
          <p:nvSpPr>
            <p:cNvPr id="183" name=""/>
            <p:cNvSpPr/>
            <p:nvPr/>
          </p:nvSpPr>
          <p:spPr>
            <a:xfrm>
              <a:off x="4462560" y="152280"/>
              <a:ext cx="1081080" cy="260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3280" y="204840"/>
              <a:ext cx="7207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Arial"/>
                </a:rPr>
                <a:t>inizio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720" y="534960"/>
            <a:ext cx="212400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Parametri (vis,ers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27280" y="1015920"/>
            <a:ext cx="2952720" cy="325440"/>
          </a:xfrm>
          <a:prstGeom prst="parallelogram">
            <a:avLst>
              <a:gd name="adj" fmla="val 22682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82920" y="1036800"/>
            <a:ext cx="1476360" cy="30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Legge v,d,ep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52960" y="1530360"/>
            <a:ext cx="1728720" cy="307080"/>
          </a:xfrm>
          <a:prstGeom prst="rect">
            <a:avLst/>
          </a:prstGeom>
          <a:solidFill>
            <a:srgbClr val="33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Calcola Re,esu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24360" y="1979640"/>
            <a:ext cx="2195280" cy="549360"/>
            <a:chOff x="3924360" y="1979640"/>
            <a:chExt cx="2195280" cy="549360"/>
          </a:xfrm>
        </p:grpSpPr>
        <p:sp>
          <p:nvSpPr>
            <p:cNvPr id="190" name=""/>
            <p:cNvSpPr/>
            <p:nvPr/>
          </p:nvSpPr>
          <p:spPr>
            <a:xfrm>
              <a:off x="3924360" y="1979640"/>
              <a:ext cx="2195280" cy="54936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82920" y="2123280"/>
              <a:ext cx="165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3366"/>
                  </a:solidFill>
                  <a:latin typeface="Arial"/>
                </a:rPr>
                <a:t>Moto laminare ?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830920" y="2378160"/>
            <a:ext cx="1549440" cy="684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2000" y="25574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Tubo liscio?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3" idx="4"/>
            <a:endCxn id="185" idx="0"/>
          </p:cNvCxnSpPr>
          <p:nvPr/>
        </p:nvCxnSpPr>
        <p:spPr>
          <a:xfrm>
            <a:off x="5003280" y="412560"/>
            <a:ext cx="19800" cy="12240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5" idx="2"/>
            <a:endCxn id="186" idx="1"/>
          </p:cNvCxnSpPr>
          <p:nvPr/>
        </p:nvCxnSpPr>
        <p:spPr>
          <a:xfrm flipH="1">
            <a:off x="5002920" y="848880"/>
            <a:ext cx="19800" cy="16704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2"/>
            <a:endCxn id="188" idx="0"/>
          </p:cNvCxnSpPr>
          <p:nvPr/>
        </p:nvCxnSpPr>
        <p:spPr>
          <a:xfrm flipH="1">
            <a:off x="5017320" y="1341000"/>
            <a:ext cx="3960" cy="18972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8" idx="2"/>
            <a:endCxn id="190" idx="0"/>
          </p:cNvCxnSpPr>
          <p:nvPr/>
        </p:nvCxnSpPr>
        <p:spPr>
          <a:xfrm>
            <a:off x="5017680" y="1844280"/>
            <a:ext cx="5400" cy="13572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3"/>
            <a:endCxn id="192" idx="0"/>
          </p:cNvCxnSpPr>
          <p:nvPr/>
        </p:nvCxnSpPr>
        <p:spPr>
          <a:xfrm>
            <a:off x="6119640" y="2254320"/>
            <a:ext cx="486720" cy="124560"/>
          </a:xfrm>
          <a:prstGeom prst="bentConnector2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6191280" y="203832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99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72360" y="2881440"/>
            <a:ext cx="1620720" cy="834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3" idx="3"/>
            <a:endCxn id="200" idx="0"/>
          </p:cNvCxnSpPr>
          <p:nvPr/>
        </p:nvCxnSpPr>
        <p:spPr>
          <a:xfrm>
            <a:off x="7380000" y="2709360"/>
            <a:ext cx="703800" cy="17244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317840" y="2841480"/>
                <a:ext cx="13003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ε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03" name=""/>
          <p:cNvCxnSpPr>
            <a:stCxn id="192" idx="1"/>
            <a:endCxn id="181" idx="0"/>
          </p:cNvCxnSpPr>
          <p:nvPr/>
        </p:nvCxnSpPr>
        <p:spPr>
          <a:xfrm flipV="1" rot="10800000">
            <a:off x="5022000" y="2719800"/>
            <a:ext cx="808920" cy="961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451640" y="3141720"/>
                <a:ext cx="1297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943280" y="2881440"/>
            <a:ext cx="1620720" cy="691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0" idx="1"/>
            <a:endCxn id="205" idx="0"/>
          </p:cNvCxnSpPr>
          <p:nvPr/>
        </p:nvCxnSpPr>
        <p:spPr>
          <a:xfrm flipV="1" rot="10800000">
            <a:off x="2753640" y="2253960"/>
            <a:ext cx="1170720" cy="627840"/>
          </a:xfrm>
          <a:prstGeom prst="bentConnector2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11280" y="2924280"/>
                <a:ext cx="576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256360" y="249228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99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247032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66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0" y="2038320"/>
            <a:ext cx="5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99ff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1640" y="3860640"/>
            <a:ext cx="1620720" cy="3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751280" y="3932280"/>
                <a:ext cx="57636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3" name=""/>
          <p:cNvCxnSpPr>
            <a:stCxn id="205" idx="2"/>
            <a:endCxn id="214" idx="0"/>
          </p:cNvCxnSpPr>
          <p:nvPr/>
        </p:nvCxnSpPr>
        <p:spPr>
          <a:xfrm flipH="1" rot="16200000">
            <a:off x="2637360" y="3689640"/>
            <a:ext cx="2483640" cy="2250000"/>
          </a:xfrm>
          <a:prstGeom prst="bentConnector3">
            <a:avLst>
              <a:gd name="adj1" fmla="val 96085"/>
            </a:avLst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81" idx="2"/>
            <a:endCxn id="211" idx="0"/>
          </p:cNvCxnSpPr>
          <p:nvPr/>
        </p:nvCxnSpPr>
        <p:spPr>
          <a:xfrm flipV="1" rot="10800000">
            <a:off x="5022000" y="3607920"/>
            <a:ext cx="1080" cy="253080"/>
          </a:xfrm>
          <a:prstGeom prst="bentConnector2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0" idx="2"/>
          </p:cNvCxnSpPr>
          <p:nvPr/>
        </p:nvCxnSpPr>
        <p:spPr>
          <a:xfrm rot="5400000">
            <a:off x="6541920" y="2176920"/>
            <a:ext cx="2520" cy="3080520"/>
          </a:xfrm>
          <a:prstGeom prst="bentConnector4">
            <a:avLst>
              <a:gd name="adj1" fmla="val 14400000"/>
              <a:gd name="adj2" fmla="val 63136"/>
            </a:avLst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43280" y="4371840"/>
            <a:ext cx="2556000" cy="828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11760" y="4383000"/>
                <a:ext cx="2043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219" name=""/>
          <p:cNvCxnSpPr>
            <a:stCxn id="211" idx="2"/>
            <a:endCxn id="217" idx="0"/>
          </p:cNvCxnSpPr>
          <p:nvPr/>
        </p:nvCxnSpPr>
        <p:spPr>
          <a:xfrm flipH="1">
            <a:off x="5020920" y="4184640"/>
            <a:ext cx="2160" cy="18792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4282920" y="5308560"/>
            <a:ext cx="1476360" cy="6127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16360" y="5397480"/>
                <a:ext cx="755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222" name=""/>
          <p:cNvCxnSpPr>
            <a:stCxn id="220" idx="1"/>
            <a:endCxn id="211" idx="1"/>
          </p:cNvCxnSpPr>
          <p:nvPr/>
        </p:nvCxnSpPr>
        <p:spPr>
          <a:xfrm rot="10800000">
            <a:off x="4210920" y="4021920"/>
            <a:ext cx="72000" cy="1593000"/>
          </a:xfrm>
          <a:prstGeom prst="bentConnector3">
            <a:avLst>
              <a:gd name="adj1" fmla="val 1675376"/>
            </a:avLst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7" idx="2"/>
            <a:endCxn id="220" idx="0"/>
          </p:cNvCxnSpPr>
          <p:nvPr/>
        </p:nvCxnSpPr>
        <p:spPr>
          <a:xfrm>
            <a:off x="5020920" y="5200560"/>
            <a:ext cx="1080" cy="10872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600360" y="5357880"/>
            <a:ext cx="5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99ff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6056280"/>
            <a:ext cx="2952720" cy="325440"/>
          </a:xfrm>
          <a:prstGeom prst="parallelogram">
            <a:avLst>
              <a:gd name="adj" fmla="val 22682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5280" y="605628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Scrive Re,esud,</a:t>
            </a:r>
            <a:r>
              <a:rPr b="0" lang="it-IT" sz="1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354560" y="6516720"/>
            <a:ext cx="1081080" cy="260280"/>
            <a:chOff x="4354560" y="6516720"/>
            <a:chExt cx="1081080" cy="260280"/>
          </a:xfrm>
        </p:grpSpPr>
        <p:sp>
          <p:nvSpPr>
            <p:cNvPr id="227" name=""/>
            <p:cNvSpPr/>
            <p:nvPr/>
          </p:nvSpPr>
          <p:spPr>
            <a:xfrm>
              <a:off x="4354560" y="6516720"/>
              <a:ext cx="1081080" cy="260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35280" y="6569280"/>
              <a:ext cx="7207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Arial"/>
                </a:rPr>
                <a:t>fin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cxnSp>
        <p:nvCxnSpPr>
          <p:cNvPr id="229" name=""/>
          <p:cNvCxnSpPr>
            <a:stCxn id="220" idx="2"/>
            <a:endCxn id="214" idx="0"/>
          </p:cNvCxnSpPr>
          <p:nvPr/>
        </p:nvCxnSpPr>
        <p:spPr>
          <a:xfrm flipH="1">
            <a:off x="5002920" y="5920920"/>
            <a:ext cx="18360" cy="13572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5" idx="4"/>
            <a:endCxn id="227" idx="0"/>
          </p:cNvCxnSpPr>
          <p:nvPr/>
        </p:nvCxnSpPr>
        <p:spPr>
          <a:xfrm>
            <a:off x="4895640" y="6381360"/>
            <a:ext cx="1080" cy="135720"/>
          </a:xfrm>
          <a:prstGeom prst="straightConnector1">
            <a:avLst/>
          </a:prstGeom>
          <a:ln w="9360">
            <a:solidFill>
              <a:srgbClr val="99cc99"/>
            </a:solidFill>
            <a:miter/>
            <a:tailEnd len="med" type="triangle" w="med"/>
          </a:ln>
        </p:spPr>
      </p:cxnSp>
      <p:sp>
        <p:nvSpPr>
          <p:cNvPr id="231" name=""/>
          <p:cNvSpPr txBox="1"/>
          <p:nvPr/>
        </p:nvSpPr>
        <p:spPr>
          <a:xfrm>
            <a:off x="834120" y="834120"/>
            <a:ext cx="28364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Algoritmo di calcol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5A4A-9901-4024-B5E9-2ED93C663CD7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rogrammare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t’s the only job I can think of where I get to be both an engineer and an artist. There is an incredible, rigorous technical element to it, which I like because you have to do very precise thinking. On the other hand, it has a wildly creative side where the boundaries of imagination are the only real limit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(Andy Hertzfel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67AD-0366-4919-9E76-0E39D448A5D3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5265720"/>
            <a:ext cx="3657600" cy="1171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3280" y="64101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http://folklore.or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rogrammar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768760"/>
            <a:ext cx="760104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nalisi del problema e specifiche (input/out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Organizzazione dei dati e progettazione dell’algoritmo (pseudocoding, flowchar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mplementazione (sintassi,variabili,tipi,operazioni,assegnazioni, I/O,commenti, sti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ecuzione e test dei risult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3897-CFAF-4CDF-AE76-6C1D1EA38F70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ossibili strutture in un algorit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2602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99ff"/>
                </a:solidFill>
                <a:latin typeface="Arial"/>
              </a:rPr>
              <a:t>Sequenzi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 passi sono eseguiti in modo strettamente sequenziale, ogni passo è eseguito una sola vol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25320" indent="-2602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99ff"/>
                </a:solidFill>
                <a:latin typeface="Arial"/>
              </a:rPr>
              <a:t>Selezion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ra varie alternative, una viene selezionata ed esegui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25320" indent="-2602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99ff"/>
                </a:solidFill>
                <a:latin typeface="Arial"/>
              </a:rPr>
              <a:t>Ripetizion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una o più operazioni sono eseguite ripetutam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6B1-49BF-4F24-B015-94778F6D82C8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Simbologia dei diagrammi di flus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8920" y="2421000"/>
            <a:ext cx="3770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nizio o f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Assegn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le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lezione multip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om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Cic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ubrou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inee di flus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6D69-8AA9-47FC-9249-7A406F982C87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695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1680"/>
          <a:stretch/>
        </p:blipFill>
        <p:spPr>
          <a:xfrm>
            <a:off x="4648320" y="3413160"/>
            <a:ext cx="3886200" cy="3063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Esempio di un diagramma di flusso</a:t>
            </a:r>
            <a:br>
              <a:rPr sz="3200"/>
            </a:b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Calcolo della funzione di probabilità di Poiss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BE9D-E326-45DA-868B-E5BB0E788C93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11640" y="2419200"/>
                <a:ext cx="22320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2706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Sommario di un programma in FORTR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B66-DDA2-4F45-9428-9C755B9D7348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PROGRAM &lt;nome del programma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Ty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REAL &lt;lista delle variabili reali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INTEGER &lt;lista delle variabili inter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READ *, &lt;lista delle variabili in input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Assegnazion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variabile=espression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Operazioni, cicli, selezion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PRINT *, &lt;lista degli output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WRITE (*,*) &lt;lista degli output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227664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cc"/>
                </a:solidFill>
                <a:latin typeface="Arial"/>
              </a:rPr>
              <a:t>Intestazion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32446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cc"/>
                </a:solidFill>
                <a:latin typeface="Arial"/>
              </a:rPr>
              <a:t>Specificazione dei dat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7640" y="436572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cc"/>
                </a:solidFill>
                <a:latin typeface="Arial"/>
              </a:rPr>
              <a:t>Esecuzion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349360"/>
            <a:ext cx="360360" cy="287640"/>
          </a:xfrm>
          <a:custGeom>
            <a:avLst/>
            <a:gdLst>
              <a:gd name="textAreaLeft" fmla="*/ 0 w 360360"/>
              <a:gd name="textAreaRight" fmla="*/ 129960 w 36036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852640"/>
            <a:ext cx="289080" cy="1224000"/>
          </a:xfrm>
          <a:custGeom>
            <a:avLst/>
            <a:gdLst>
              <a:gd name="textAreaLeft" fmla="*/ 0 w 289080"/>
              <a:gd name="textAreaRight" fmla="*/ 10440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4221000"/>
            <a:ext cx="144360" cy="79236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526572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cc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5121360"/>
            <a:ext cx="144360" cy="79200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26200" y="61768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cccc"/>
                </a:solidFill>
                <a:latin typeface="Arial"/>
              </a:rPr>
              <a:t>Fin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38920" y="6129360"/>
            <a:ext cx="145800" cy="431640"/>
          </a:xfrm>
          <a:custGeom>
            <a:avLst/>
            <a:gdLst>
              <a:gd name="textAreaLeft" fmla="*/ 0 w 145800"/>
              <a:gd name="textAreaRight" fmla="*/ 52560 w 1458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Formato del program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C98D-88D1-4877-B652-A5FF64327747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8000" y="5486400"/>
            <a:ext cx="226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 or * in column 1 indicates a commen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650"/>
          <a:stretch/>
        </p:blipFill>
        <p:spPr>
          <a:xfrm>
            <a:off x="1143000" y="2475000"/>
            <a:ext cx="74674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aria Musumeci</cp:lastModifiedBy>
  <dcterms:modified xsi:type="dcterms:W3CDTF">2005-04-12T08:00:23Z</dcterms:modified>
  <cp:revision>87</cp:revision>
  <dc:subject/>
  <dc:title>PowerPoint Presentation</dc:title>
</cp:coreProperties>
</file>